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whoosh.wav" ContentType="audio/x-wav"/>
  <Override PartName="/ppt/media/image11.jpeg" ContentType="image/jpeg"/>
  <Override PartName="/ppt/media/image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F090-7F27-40C2-85FC-51F1A31FD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B52F-ECB7-45C6-A6CA-DD1B8578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5FA1-A120-4BC4-8735-2A9473658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DD82-C9BB-403B-9B6C-22F82398D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A1FD9-CD78-4424-8FCB-165080B78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0812-F4EB-4FB1-B51A-A92C6EBF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57871-7EE3-4203-B165-5825B434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81964-6B6D-4917-9C6B-5832F05E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EB6A-16B4-4AAC-A4F0-003D7317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5EFEC-C56A-480C-9DE5-AE718866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0DE2-6C60-4233-9B2D-2F88F80F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020A-3C8F-4B77-BB2F-90BCAB01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70A21-13A7-40A0-BDB0-D592AFEE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D717-590C-4ED7-A0BA-59E6637D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9E514-CCEA-40ED-9F31-E1F73A96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C863-5615-4FD5-A92F-494316539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7E0A-74B9-4859-ABC1-B777DCB00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73CD-BA9D-416C-B5A2-6AD7DEA3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BEF5-B9EA-44A5-801F-94688DBB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17ED-9769-489F-9357-25E85521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0585-60D6-486A-8582-2B9B3C14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1CCE-8F2A-41F8-834D-7A94F5F9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EDF6-BC5C-4A38-B3B1-FC5E1FAF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3CE4-F397-47EE-9907-858D6EEB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040" y="-4680"/>
              <a:ext cx="1012680" cy="6857640"/>
              <a:chOff x="4104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70560" y="-4680"/>
                <a:ext cx="969120" cy="682092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0560" y="1685880"/>
                <a:ext cx="969120" cy="498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72360" y="1285920"/>
                <a:ext cx="969120" cy="50328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72360" y="152280"/>
                <a:ext cx="969120" cy="3038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0560" y="979560"/>
                <a:ext cx="969120" cy="346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4880" y="677160"/>
                <a:ext cx="968760" cy="4320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2360" y="365760"/>
                <a:ext cx="98136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0680" y="3925800"/>
                <a:ext cx="968760" cy="4982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51480" y="3542400"/>
                <a:ext cx="968760" cy="49968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2640" y="2394720"/>
                <a:ext cx="969120" cy="3038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51480" y="3220560"/>
                <a:ext cx="968760" cy="34668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2640" y="2926440"/>
                <a:ext cx="969120" cy="4269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2640" y="2607120"/>
                <a:ext cx="981360" cy="375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240" y="4956120"/>
                <a:ext cx="968760" cy="4982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9040" y="4537080"/>
                <a:ext cx="968760" cy="5018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1480" y="5642280"/>
                <a:ext cx="9687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2880" y="6194880"/>
                <a:ext cx="345240" cy="9705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0680" y="6189480"/>
                <a:ext cx="968760" cy="4269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74840"/>
                <a:ext cx="981360" cy="375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DD26-16E6-4D1D-9D25-94C2FFDE7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20240"/>
              <a:chOff x="-3240" y="2479680"/>
              <a:chExt cx="9146880" cy="10202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9600" y="-1576440"/>
                <a:ext cx="98892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1600" y="2648520"/>
                <a:ext cx="9889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520" y="264780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200" y="2790360"/>
                <a:ext cx="9889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240" y="2749680"/>
                <a:ext cx="98892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7680" y="2695680"/>
                <a:ext cx="98892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3360" y="2749320"/>
                <a:ext cx="100152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1440" y="2642760"/>
                <a:ext cx="98856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240" y="263988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800" y="2782080"/>
                <a:ext cx="9889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1760"/>
                <a:ext cx="98892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5360" y="2690640"/>
                <a:ext cx="98856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200" y="2730960"/>
                <a:ext cx="100152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6600" y="2648880"/>
                <a:ext cx="98892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9400" y="264780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3800" y="2778840"/>
                <a:ext cx="9889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0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0000" y="2690280"/>
                <a:ext cx="98856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2360" y="2730600"/>
                <a:ext cx="10015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8D77-0CE0-44F3-A414-C04BBE97A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b/b1/Hitlermusso2_edit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9/97/Herbert_Hoover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upload.wikimedia.org/wikipedia/commons/0/00/Evictbonusarmy.jpg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3366"/>
                </a:solidFill>
                <a:latin typeface="Times New Roman"/>
              </a:rPr>
              <a:t>All good things must come to an end…</a:t>
            </a:r>
            <a:endParaRPr b="0" lang="en-US" sz="37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WordArt 4"/>
          <p:cNvSpPr txBox="1"/>
          <p:nvPr/>
        </p:nvSpPr>
        <p:spPr>
          <a:xfrm>
            <a:off x="990720" y="990720"/>
            <a:ext cx="723888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8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Great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pression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0" name="WordArt 5"/>
          <p:cNvSpPr txBox="1"/>
          <p:nvPr/>
        </p:nvSpPr>
        <p:spPr>
          <a:xfrm>
            <a:off x="5562720" y="5638680"/>
            <a:ext cx="3047760" cy="9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5000"/>
                    </a:srgbClr>
                  </a:outerShdw>
                </a:effectLst>
                <a:latin typeface="Times New Roman"/>
              </a:rPr>
              <a:t>1929 - 1945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Depression Begi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720" y="1066320"/>
            <a:ext cx="44956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es spread world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S calls in debts owed by othe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overnments collapse into turmoil (Germany, Italy, and Spa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ise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scist Governmen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(or nationalist dictatorships) which promise recovery thru fear and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Image:Hitlermusso2 edit.jpg">
            <a:hlinkClick r:id="rId1"/>
          </p:cNvPr>
          <p:cNvPicPr/>
          <p:nvPr/>
        </p:nvPicPr>
        <p:blipFill>
          <a:blip r:embed="rId2"/>
          <a:srcRect l="9536" t="16601" r="7822" b="7729"/>
          <a:stretch/>
        </p:blipFill>
        <p:spPr>
          <a:xfrm>
            <a:off x="5486400" y="1066680"/>
            <a:ext cx="35812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3" descr="1932-03-b.gif"/>
          <p:cNvPicPr/>
          <p:nvPr/>
        </p:nvPicPr>
        <p:blipFill>
          <a:blip r:embed="rId1"/>
          <a:srcRect l="1928" t="2223" r="2371" b="7654"/>
          <a:stretch/>
        </p:blipFill>
        <p:spPr>
          <a:xfrm>
            <a:off x="304920" y="0"/>
            <a:ext cx="8416800" cy="6872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1932-03-b.gif"/>
          <p:cNvPicPr/>
          <p:nvPr/>
        </p:nvPicPr>
        <p:blipFill>
          <a:blip r:embed="rId2"/>
          <a:srcRect l="29549" t="92841" r="30202" b="1727"/>
          <a:stretch/>
        </p:blipFill>
        <p:spPr>
          <a:xfrm>
            <a:off x="2209680" y="2971800"/>
            <a:ext cx="45579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over fails the Peop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990720" y="1143000"/>
            <a:ext cx="81532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siness would correct       economic probl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ublican Party:  Gov.              should help businesses (not peop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ought in Midwest causes farms to go under, millions on the mo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employment in 1932:  25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10" descr="Image:Herbert Hoover.jpg"/>
          <p:cNvPicPr/>
          <p:nvPr/>
        </p:nvPicPr>
        <p:blipFill>
          <a:blip r:embed="rId1"/>
          <a:srcRect l="13421" t="6379" r="16237" b="29794"/>
          <a:stretch/>
        </p:blipFill>
        <p:spPr>
          <a:xfrm>
            <a:off x="6700680" y="0"/>
            <a:ext cx="24433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http://www.english.uiuc.edu/maps/depression/images/jobbureau.jpg"/>
          <p:cNvPicPr/>
          <p:nvPr/>
        </p:nvPicPr>
        <p:blipFill>
          <a:blip r:embed="rId1"/>
          <a:stretch/>
        </p:blipFill>
        <p:spPr>
          <a:xfrm>
            <a:off x="114480" y="304920"/>
            <a:ext cx="90295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http://ravingsfromtheblogdweller.files.wordpress.com/2008/08/great-depression-soup-lin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0" y="219240"/>
            <a:ext cx="914400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274680"/>
            <a:ext cx="78487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uses of the Great Depression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12193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I and Onset of World Economic Cri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 debt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turn in agricultural prices after end of WW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turn to growing in Europe undermined pr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l Estate Specu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p. Florida (1926 Miami Hurrican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o many poor ba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ly 33% belonged to the Federal Reser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ock Market Speculation (Buying on Margin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ock prices increased 54% from 1922-192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sing invento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ople only buy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g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tems once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over fails the Peop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990720" y="1143000"/>
            <a:ext cx="81532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overvil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over Blank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over Fla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over St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19" descr="http://www.us-coin-values-advisor.com/images/Hooverville.jpg"/>
          <p:cNvPicPr/>
          <p:nvPr/>
        </p:nvPicPr>
        <p:blipFill>
          <a:blip r:embed="rId1"/>
          <a:stretch/>
        </p:blipFill>
        <p:spPr>
          <a:xfrm>
            <a:off x="1219320" y="990720"/>
            <a:ext cx="7315200" cy="5776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7" descr="http://projects.loudoun.k12.va.us/schools/lchs/english/rader/project/essays2/amandad/hooverville.gif"/>
          <p:cNvPicPr/>
          <p:nvPr/>
        </p:nvPicPr>
        <p:blipFill>
          <a:blip r:embed="rId2"/>
          <a:stretch/>
        </p:blipFill>
        <p:spPr>
          <a:xfrm>
            <a:off x="304920" y="963720"/>
            <a:ext cx="8610480" cy="58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12193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Bonus Ar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1143000" y="1143000"/>
            <a:ext cx="81532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manded WW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pensions ear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over calls out Arm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4" descr="Image:Herbert Hoover.jpg">
            <a:hlinkClick r:id="rId1"/>
          </p:cNvPr>
          <p:cNvPicPr/>
          <p:nvPr/>
        </p:nvPicPr>
        <p:blipFill>
          <a:blip r:embed="rId2"/>
          <a:srcRect l="13421" t="6379" r="16237" b="29794"/>
          <a:stretch/>
        </p:blipFill>
        <p:spPr>
          <a:xfrm>
            <a:off x="6700680" y="0"/>
            <a:ext cx="2443320" cy="2819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Image:Evictbonusarmy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36600" y="3048120"/>
            <a:ext cx="5635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Object 5"/>
          <p:cNvGraphicFramePr/>
          <p:nvPr/>
        </p:nvGraphicFramePr>
        <p:xfrm>
          <a:off x="0" y="0"/>
          <a:ext cx="9144000" cy="55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5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4"/>
          <p:cNvGraphicFramePr/>
          <p:nvPr/>
        </p:nvGraphicFramePr>
        <p:xfrm>
          <a:off x="0" y="4281480"/>
          <a:ext cx="2819520" cy="25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281480"/>
                    <a:ext cx="2819520" cy="25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9" name="Picture 7" descr="http://upload.wikimedia.org/wikipedia/commons/thumb/b/b8/FDR_in_1933.jpg/509px-FDR_in_1933.jpg"/>
          <p:cNvPicPr/>
          <p:nvPr/>
        </p:nvPicPr>
        <p:blipFill>
          <a:blip r:embed="rId5"/>
          <a:stretch/>
        </p:blipFill>
        <p:spPr>
          <a:xfrm>
            <a:off x="1663560" y="6480"/>
            <a:ext cx="581832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954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eviously, in economic history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173240" y="762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pression – 1807 (Embargo Ac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pression – 1819 (Land speculati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pression – 1873 (Money speculati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pression – 1920 (Post WW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2362320" y="2971800"/>
            <a:ext cx="487656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igns of DOOOOOOOM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rmers over produce cr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Increase supply = decreased p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Many farmers are put out of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 Unions are w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Good times = lots of jobs (and high turno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and for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ducts de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Washers, dryers, radios, cars (once you have it, you only buy when it brea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Businesses don</a:t>
            </a:r>
            <a:r>
              <a:rPr b="0" lang="ja-JP" sz="2400" spc="-1" strike="noStrike">
                <a:solidFill>
                  <a:srgbClr val="0099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t cut back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ying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margi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w/ cred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Hoping to make profit to pay off deb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Stock Market Crash (1929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720" y="99072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or Selling begins in August/Se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ock prices start to decline as people sell (stocks are overvalued)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tabilize, brokers make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in call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 order to pay brokers, people who bought on the margin sell stocks, causing a domino effec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ACK TUESD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0/29/192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anic sets in as stock market plu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earing the worst, everyone starts pulling 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ome stocks wor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5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at the start of the day fall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50 cen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by the e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$1000 worth $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ose who don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 pull out, lose it al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http://www.1929crash.info/1929_crash_of_stock_market.jpg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Crash Spreads (1929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o the sell off, many still owe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illions storm the banks to take money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usands of banks go bankru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ose with money still in those banks, lose it al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investment, businesses reduce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hich means job cuts (hours, wage,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ith people out of work (or with less money), less demand exists for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hich causes more cuts or businesses fa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0" y="228600"/>
            <a:ext cx="912168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0" y="380880"/>
            <a:ext cx="9172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3" descr="http://www.econreview.com/events/images/urdep.png"/>
          <p:cNvPicPr/>
          <p:nvPr/>
        </p:nvPicPr>
        <p:blipFill>
          <a:blip r:embed="rId1"/>
          <a:srcRect l="0" t="0" r="0" b="4117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4T11:46:34Z</dcterms:created>
  <dc:creator>Brent J. Freccia</dc:creator>
  <dc:description/>
  <dc:language>en-US</dc:language>
  <cp:lastModifiedBy>End User</cp:lastModifiedBy>
  <dcterms:modified xsi:type="dcterms:W3CDTF">2013-12-05T11:55:12Z</dcterms:modified>
  <cp:revision>10</cp:revision>
  <dc:subject/>
  <dc:title>All good things must come to an end…</dc:title>
</cp:coreProperties>
</file>